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474A-0035-4DA0-A606-30959AAD5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1D7C-3DC7-4E19-9B63-C0A41F07C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04AF-9A08-4C2C-8578-4B7355519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71B4-FEB8-4D13-AC71-B2EF9AFAF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604C-6ECA-466F-AD60-493B41E2F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899D-7D14-4476-BBBB-5D75EDEA2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930F-03F6-4E34-AA02-46A2070D6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2214-936A-4F77-96D1-2936A88AB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ACA1-9901-4211-A522-9D59DC529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A589-332B-4C6E-AD41-687B5B666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CDE5-3B7B-451E-9474-0D9492449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E873-2DB6-43F7-80A2-5960E638F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DECF-1227-4908-ABF1-AE68AF93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F9B-C396-4924-B08E-E83B009F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EA2-DB24-4AC1-88F3-C8D25EA2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775-95D3-4CE3-A9D7-733B828C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D53-AE48-432C-9ED9-5142EB73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C4F-C596-4548-8677-FC6EDCDE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9D0-3FEF-4910-A3D3-584915BA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553-7808-4C01-8714-3EBA51F1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ECA-6903-49E1-B68A-16684657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346-9D53-443D-B44B-7E4408DB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E32-6160-44CB-B0D4-6B4DDA8F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52B-270F-4978-8374-EDAC5A01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4A2B-1805-454F-8381-586E1A6EBC97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op_strip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Copyright 2007 – Biz/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74174"/>
                </a:solidFill>
                <a:latin typeface="Verdana"/>
              </a:rPr>
              <a:t>Globalisation</a:t>
            </a:r>
            <a:endParaRPr b="0" lang="en-US" sz="4800" spc="-1" strike="noStrike">
              <a:solidFill>
                <a:srgbClr val="1741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Domin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Key Issu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the environ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labour?</a:t>
            </a:r>
            <a:r>
              <a:rPr b="0" lang="en-GB" sz="2000" spc="-1" strike="noStrike">
                <a:solidFill>
                  <a:srgbClr val="44444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opoly p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omic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renewable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cul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3" descr="8096_3952"/>
          <p:cNvPicPr/>
          <p:nvPr/>
        </p:nvPicPr>
        <p:blipFill>
          <a:blip r:embed="rId1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4724280" y="4876920"/>
            <a:ext cx="403884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ell and Nike’s activities have come under severe criticism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some quar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Homsel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9" descr="33120_8091"/>
          <p:cNvPicPr/>
          <p:nvPr/>
        </p:nvPicPr>
        <p:blipFill>
          <a:blip r:embed="rId2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Other Issues: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56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untabili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Global busines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gap between rich and poor fuels potential terrorist re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thical responsibility of busin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fforts to remove trade barr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304920" y="4724280"/>
            <a:ext cx="380988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re are plenty of people who believe that globalisation is a negative development, protests at the G8 summits, pollution, poverty and concern over GM crops are just some of the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6" descr="86433_1252"/>
          <p:cNvPicPr/>
          <p:nvPr/>
        </p:nvPicPr>
        <p:blipFill>
          <a:blip r:embed="rId1"/>
          <a:stretch/>
        </p:blipFill>
        <p:spPr>
          <a:xfrm>
            <a:off x="228600" y="1735200"/>
            <a:ext cx="4343400" cy="2684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7" descr="76198_1128"/>
          <p:cNvPicPr/>
          <p:nvPr/>
        </p:nvPicPr>
        <p:blipFill>
          <a:blip r:embed="rId2"/>
          <a:stretch/>
        </p:blipFill>
        <p:spPr>
          <a:xfrm>
            <a:off x="228600" y="1714680"/>
            <a:ext cx="4343400" cy="270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8" descr="79325_4107"/>
          <p:cNvPicPr/>
          <p:nvPr/>
        </p:nvPicPr>
        <p:blipFill>
          <a:blip r:embed="rId3"/>
          <a:stretch/>
        </p:blipFill>
        <p:spPr>
          <a:xfrm>
            <a:off x="228600" y="1676520"/>
            <a:ext cx="4419720" cy="27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9" descr="Image of Anti-GM Crop Protest, Long Marsden, England, image 756738-001"/>
          <p:cNvPicPr/>
          <p:nvPr/>
        </p:nvPicPr>
        <p:blipFill>
          <a:blip r:embed="rId4"/>
          <a:stretch/>
        </p:blipFill>
        <p:spPr>
          <a:xfrm>
            <a:off x="228600" y="1670040"/>
            <a:ext cx="44197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 economic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oci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cultur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movement towards the expansion of economic and social ties between countries through the spread of corporate institutions and the capitalist philosophy that leads to the shrinking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orld in economic ter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063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6" name="Picture 4" descr="$0$"/>
          <p:cNvPicPr/>
          <p:nvPr/>
        </p:nvPicPr>
        <p:blipFill>
          <a:blip r:embed="rId1"/>
          <a:stretch/>
        </p:blipFill>
        <p:spPr>
          <a:xfrm>
            <a:off x="0" y="914400"/>
            <a:ext cx="8763120" cy="509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238880" y="4800600"/>
            <a:ext cx="160020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lobalisation could involve all these thing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creasing reliance of economies on each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to be able to buy and sell in any country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for labour and capital to locate anywhere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growth of global markets in fi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2209680" y="2057400"/>
            <a:ext cx="1676520" cy="1905120"/>
            <a:chOff x="2209680" y="2057400"/>
            <a:chExt cx="1676520" cy="1905120"/>
          </a:xfrm>
        </p:grpSpPr>
        <p:sp>
          <p:nvSpPr>
            <p:cNvPr id="61" name="Rectangle 5"/>
            <p:cNvSpPr/>
            <p:nvPr/>
          </p:nvSpPr>
          <p:spPr>
            <a:xfrm>
              <a:off x="2209680" y="2057400"/>
              <a:ext cx="16765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11"/>
            <p:cNvGrpSpPr/>
            <p:nvPr/>
          </p:nvGrpSpPr>
          <p:grpSpPr>
            <a:xfrm>
              <a:off x="2209680" y="2057400"/>
              <a:ext cx="1667520" cy="1905120"/>
              <a:chOff x="2209680" y="2057400"/>
              <a:chExt cx="1667520" cy="190512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205740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Group 10"/>
              <p:cNvGrpSpPr/>
              <p:nvPr/>
            </p:nvGrpSpPr>
            <p:grpSpPr>
              <a:xfrm>
                <a:off x="2209680" y="2057400"/>
                <a:ext cx="1667520" cy="1905120"/>
                <a:chOff x="2209680" y="2057400"/>
                <a:chExt cx="1667520" cy="1905120"/>
              </a:xfrm>
            </p:grpSpPr>
            <p:sp>
              <p:nvSpPr>
                <p:cNvPr id="65" name="Rectangle 7"/>
                <p:cNvSpPr/>
                <p:nvPr/>
              </p:nvSpPr>
              <p:spPr>
                <a:xfrm>
                  <a:off x="2209680" y="2057400"/>
                  <a:ext cx="166752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8"/>
                <p:cNvSpPr/>
                <p:nvPr/>
              </p:nvSpPr>
              <p:spPr>
                <a:xfrm>
                  <a:off x="2209680" y="2057400"/>
                  <a:ext cx="1667520" cy="19051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8500" spc="-1" strike="noStrike">
                      <a:solidFill>
                        <a:srgbClr val="444444"/>
                      </a:solidFill>
                      <a:latin typeface="Verdana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67" name="Picture 13" descr="45339_9080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3405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685800" y="5257800"/>
            <a:ext cx="388620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ock Markets are now accessible from anywhere in the worl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edrod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Verdana"/>
              </a:rPr>
              <a:t>Made possible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unicatio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et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rowth of economic cooperation – trading blocs (EU, NAFTA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llapse of ‘communism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vement to free tr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Benefits of Tra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potential for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international economies of s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employment opport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" name="Group 12"/>
          <p:cNvGrpSpPr/>
          <p:nvPr/>
        </p:nvGrpSpPr>
        <p:grpSpPr>
          <a:xfrm>
            <a:off x="4952880" y="4740120"/>
            <a:ext cx="3286080" cy="74880"/>
            <a:chOff x="4952880" y="4740120"/>
            <a:chExt cx="3286080" cy="74880"/>
          </a:xfrm>
        </p:grpSpPr>
        <p:sp>
          <p:nvSpPr>
            <p:cNvPr id="74" name="Rectangle 5"/>
            <p:cNvSpPr/>
            <p:nvPr/>
          </p:nvSpPr>
          <p:spPr>
            <a:xfrm flipV="1">
              <a:off x="4952880" y="4814280"/>
              <a:ext cx="328608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11"/>
            <p:cNvGrpSpPr/>
            <p:nvPr/>
          </p:nvGrpSpPr>
          <p:grpSpPr>
            <a:xfrm>
              <a:off x="4952880" y="4740120"/>
              <a:ext cx="3268800" cy="74880"/>
              <a:chOff x="4952880" y="4740120"/>
              <a:chExt cx="3268800" cy="74880"/>
            </a:xfrm>
          </p:grpSpPr>
          <p:sp>
            <p:nvSpPr>
              <p:cNvPr id="76" name="Rectangle 6"/>
              <p:cNvSpPr/>
              <p:nvPr/>
            </p:nvSpPr>
            <p:spPr>
              <a:xfrm flipV="1">
                <a:off x="4952880" y="48142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10"/>
              <p:cNvGrpSpPr/>
              <p:nvPr/>
            </p:nvGrpSpPr>
            <p:grpSpPr>
              <a:xfrm>
                <a:off x="4952880" y="4740120"/>
                <a:ext cx="3268800" cy="74880"/>
                <a:chOff x="4952880" y="4740120"/>
                <a:chExt cx="3268800" cy="74880"/>
              </a:xfrm>
            </p:grpSpPr>
            <p:sp>
              <p:nvSpPr>
                <p:cNvPr id="78" name="Rectangle 7"/>
                <p:cNvSpPr/>
                <p:nvPr/>
              </p:nvSpPr>
              <p:spPr>
                <a:xfrm flipV="1">
                  <a:off x="4952880" y="4814280"/>
                  <a:ext cx="326880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8"/>
                <p:cNvSpPr/>
                <p:nvPr/>
              </p:nvSpPr>
              <p:spPr>
                <a:xfrm flipV="1">
                  <a:off x="4952880" y="4740120"/>
                  <a:ext cx="3268800" cy="748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0" name="Picture 13" descr="6925_8654"/>
          <p:cNvPicPr/>
          <p:nvPr/>
        </p:nvPicPr>
        <p:blipFill>
          <a:blip r:embed="rId1"/>
          <a:stretch/>
        </p:blipFill>
        <p:spPr>
          <a:xfrm>
            <a:off x="4648320" y="1981080"/>
            <a:ext cx="4190760" cy="3481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4572000" y="5486400"/>
            <a:ext cx="4267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de has led to massive increases in wealth for many count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budgetstock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Disadvantages 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of tra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 in gap between the rich and the po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minance of global trade by the rich, northern hemisphere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ck of opportunities for the poor to be able to have access to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workers and gro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3" descr="79528_7870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49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4648320" y="5105520"/>
            <a:ext cx="4038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ow far does trade help children like the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clesio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Multi-national </a:t>
            </a:r>
            <a:br>
              <a:rPr sz="2800"/>
            </a:b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or trans-national corporations (MNCs or TNCs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businesses wit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headquarter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one country but with business operations in a number of oth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4" descr="From the Ad in Piccadilly Circus, London.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2735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5"/>
          <p:cNvSpPr/>
          <p:nvPr/>
        </p:nvSpPr>
        <p:spPr>
          <a:xfrm>
            <a:off x="533520" y="4952880"/>
            <a:ext cx="42670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o matter where you go in the world, certain businesses will always have a pres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mkeky, 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76920" y="18284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anding reven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ering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urcing raw materi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ling key supp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 of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economi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1038"/>
          <p:cNvGrpSpPr/>
          <p:nvPr/>
        </p:nvGrpSpPr>
        <p:grpSpPr>
          <a:xfrm>
            <a:off x="1752480" y="2895480"/>
            <a:ext cx="304920" cy="1143000"/>
            <a:chOff x="1752480" y="2895480"/>
            <a:chExt cx="304920" cy="1143000"/>
          </a:xfrm>
        </p:grpSpPr>
        <p:sp>
          <p:nvSpPr>
            <p:cNvPr id="93" name="Rectangle 1031"/>
            <p:cNvSpPr/>
            <p:nvPr/>
          </p:nvSpPr>
          <p:spPr>
            <a:xfrm>
              <a:off x="1752480" y="2895480"/>
              <a:ext cx="3049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037"/>
            <p:cNvGrpSpPr/>
            <p:nvPr/>
          </p:nvGrpSpPr>
          <p:grpSpPr>
            <a:xfrm>
              <a:off x="1752480" y="2895480"/>
              <a:ext cx="303480" cy="1143000"/>
              <a:chOff x="1752480" y="2895480"/>
              <a:chExt cx="303480" cy="1143000"/>
            </a:xfrm>
          </p:grpSpPr>
          <p:sp>
            <p:nvSpPr>
              <p:cNvPr id="95" name="Rectangle 1032"/>
              <p:cNvSpPr/>
              <p:nvPr/>
            </p:nvSpPr>
            <p:spPr>
              <a:xfrm>
                <a:off x="1752480" y="28954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Group 1036"/>
              <p:cNvGrpSpPr/>
              <p:nvPr/>
            </p:nvGrpSpPr>
            <p:grpSpPr>
              <a:xfrm>
                <a:off x="1752480" y="2895480"/>
                <a:ext cx="303480" cy="1143000"/>
                <a:chOff x="1752480" y="2895480"/>
                <a:chExt cx="303480" cy="1143000"/>
              </a:xfrm>
            </p:grpSpPr>
            <p:sp>
              <p:nvSpPr>
                <p:cNvPr id="97" name="Rectangle 1033"/>
                <p:cNvSpPr/>
                <p:nvPr/>
              </p:nvSpPr>
              <p:spPr>
                <a:xfrm>
                  <a:off x="1752480" y="2895480"/>
                  <a:ext cx="30348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1034"/>
                <p:cNvSpPr/>
                <p:nvPr/>
              </p:nvSpPr>
              <p:spPr>
                <a:xfrm>
                  <a:off x="1752480" y="2895480"/>
                  <a:ext cx="303480" cy="11430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6500" spc="-1" strike="noStrike">
                      <a:solidFill>
                        <a:srgbClr val="444444"/>
                      </a:solidFill>
                      <a:latin typeface="Verdana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9" name="Picture 1035" descr="72238_6062"/>
          <p:cNvPicPr/>
          <p:nvPr/>
        </p:nvPicPr>
        <p:blipFill>
          <a:blip r:embed="rId1"/>
          <a:stretch/>
        </p:blipFill>
        <p:spPr>
          <a:xfrm>
            <a:off x="380880" y="2057400"/>
            <a:ext cx="4496040" cy="2997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39"/>
          <p:cNvSpPr/>
          <p:nvPr/>
        </p:nvSpPr>
        <p:spPr>
          <a:xfrm>
            <a:off x="380880" y="5334120"/>
            <a:ext cx="4496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ntrolling supplies may be one reas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or global expan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rsvstks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0:55:58Z</dcterms:created>
  <dc:creator>A Ashwin</dc:creator>
  <dc:description/>
  <dc:language>en-US</dc:language>
  <cp:lastModifiedBy>Allison Hopkins</cp:lastModifiedBy>
  <dcterms:modified xsi:type="dcterms:W3CDTF">2012-01-21T18:23:40Z</dcterms:modified>
  <cp:revision>35</cp:revision>
  <dc:subject/>
  <dc:title>###Globalisation - PowerPoint Presentation###</dc:title>
</cp:coreProperties>
</file>