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AF88-5909-4E48-8E48-DE937AD9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4BB9-1276-408E-8D36-2D8B84309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9C00-ADBB-4DFA-A6C1-35B398DBA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AD3-43D1-461C-9541-81A4CCE0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2E73-D87F-41E3-A431-609434EFB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A62D-F801-4017-9A1D-0C6CE9C3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E4E0-EDF8-4E63-98EC-41020CCD7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C8C1-11FE-4F0A-881E-80341F12D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9AF6-8A44-4816-A7C1-F83410294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A18-060C-4D15-B6A8-131497E01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5012-E906-441B-ADF6-707FEE0AA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E9D0-2F04-4941-B44A-1BB096434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36E-ED70-4511-A495-7BCD2AFA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30F-1192-4A4C-AEB4-524332E6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D42-44C8-45E2-9E3A-11040A35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249-6905-4631-B114-93AD0716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AFA-DFB4-4662-B065-B6549203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ED4-F6A7-412B-905C-2FB1072C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1DF-50BF-41BC-AE81-77B1E05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C01-1630-4433-8681-2130D62C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4FD-2E7B-4291-94FD-4A2703DA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1D1-A59A-4613-8845-D285CE9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E7E-44E7-4306-BADC-96DBE22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3D7-264F-4CBC-81C4-9AD47F0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BB34-3F19-4E66-A263-0FE0F67920D1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7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Domin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the environ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labour?</a:t>
            </a:r>
            <a:r>
              <a:rPr b="0" lang="en-GB" sz="2000" spc="-1" strike="noStrike">
                <a:solidFill>
                  <a:srgbClr val="44444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renewable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cul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3" descr="8096_3952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4724280" y="4876920"/>
            <a:ext cx="403884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ell and Nike’s activities have come under severe criticis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ome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Homsel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9" descr="33120_8091"/>
          <p:cNvPicPr/>
          <p:nvPr/>
        </p:nvPicPr>
        <p:blipFill>
          <a:blip r:embed="rId2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Other Issues: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Global busi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gap between rich and poor fuels potential terrorist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hical responsibility of busin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orts to remove trade barr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04920" y="4724280"/>
            <a:ext cx="38098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re are plenty of people who believe that globalisation is a negative development, protests at the G8 summits, pollution, poverty and concern over GM crops are just some of th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6" descr="86433_1252"/>
          <p:cNvPicPr/>
          <p:nvPr/>
        </p:nvPicPr>
        <p:blipFill>
          <a:blip r:embed="rId1"/>
          <a:stretch/>
        </p:blipFill>
        <p:spPr>
          <a:xfrm>
            <a:off x="228600" y="1735200"/>
            <a:ext cx="4343400" cy="268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7" descr="76198_1128"/>
          <p:cNvPicPr/>
          <p:nvPr/>
        </p:nvPicPr>
        <p:blipFill>
          <a:blip r:embed="rId2"/>
          <a:stretch/>
        </p:blipFill>
        <p:spPr>
          <a:xfrm>
            <a:off x="228600" y="1714680"/>
            <a:ext cx="4343400" cy="27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8" descr="79325_4107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Image of Anti-GM Crop Protest, Long Marsden, England, image 756738-001"/>
          <p:cNvPicPr/>
          <p:nvPr/>
        </p:nvPicPr>
        <p:blipFill>
          <a:blip r:embed="rId4"/>
          <a:stretch/>
        </p:blipFill>
        <p:spPr>
          <a:xfrm>
            <a:off x="228600" y="1670040"/>
            <a:ext cx="441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conomic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oci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ultur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movement towards the expansion of economic and social ties between countries through the spread of corporate institutions and the capitalist philosophy that leads to the shrink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orld in economic ter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0$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50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238880" y="4800600"/>
            <a:ext cx="16002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obalisation could involve all these thing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creasing reliance of economies on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to be able to buy and sell in any country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for labour and capital to locate anywhere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growth of global markets in f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209680" y="2057400"/>
            <a:ext cx="1676520" cy="1905120"/>
            <a:chOff x="2209680" y="2057400"/>
            <a:chExt cx="1676520" cy="1905120"/>
          </a:xfrm>
        </p:grpSpPr>
        <p:sp>
          <p:nvSpPr>
            <p:cNvPr id="61" name="Rectangle 5"/>
            <p:cNvSpPr/>
            <p:nvPr/>
          </p:nvSpPr>
          <p:spPr>
            <a:xfrm>
              <a:off x="2209680" y="2057400"/>
              <a:ext cx="16765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1"/>
            <p:cNvGrpSpPr/>
            <p:nvPr/>
          </p:nvGrpSpPr>
          <p:grpSpPr>
            <a:xfrm>
              <a:off x="2209680" y="2057400"/>
              <a:ext cx="1667520" cy="1905120"/>
              <a:chOff x="2209680" y="2057400"/>
              <a:chExt cx="1667520" cy="190512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205740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0"/>
              <p:cNvGrpSpPr/>
              <p:nvPr/>
            </p:nvGrpSpPr>
            <p:grpSpPr>
              <a:xfrm>
                <a:off x="2209680" y="2057400"/>
                <a:ext cx="1667520" cy="1905120"/>
                <a:chOff x="2209680" y="2057400"/>
                <a:chExt cx="1667520" cy="1905120"/>
              </a:xfrm>
            </p:grpSpPr>
            <p:sp>
              <p:nvSpPr>
                <p:cNvPr id="65" name="Rectangle 7"/>
                <p:cNvSpPr/>
                <p:nvPr/>
              </p:nvSpPr>
              <p:spPr>
                <a:xfrm>
                  <a:off x="2209680" y="2057400"/>
                  <a:ext cx="166752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8"/>
                <p:cNvSpPr/>
                <p:nvPr/>
              </p:nvSpPr>
              <p:spPr>
                <a:xfrm>
                  <a:off x="2209680" y="2057400"/>
                  <a:ext cx="1667520" cy="19051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8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7" name="Picture 13" descr="45339_9080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685800" y="5257800"/>
            <a:ext cx="3886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ock Markets are now accessible from anywhere in the worl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edrod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Verdana"/>
              </a:rPr>
              <a:t>Made possible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owth of economic cooperation – trading blocs (EU, NAFTA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llapse of ‘communism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vement to free 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Benefits of Tra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potential fo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international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employment opport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4952880" y="4740120"/>
            <a:ext cx="3286080" cy="74880"/>
            <a:chOff x="4952880" y="4740120"/>
            <a:chExt cx="3286080" cy="74880"/>
          </a:xfrm>
        </p:grpSpPr>
        <p:sp>
          <p:nvSpPr>
            <p:cNvPr id="74" name="Rectangle 5"/>
            <p:cNvSpPr/>
            <p:nvPr/>
          </p:nvSpPr>
          <p:spPr>
            <a:xfrm flipV="1">
              <a:off x="4952880" y="4814280"/>
              <a:ext cx="328608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1"/>
            <p:cNvGrpSpPr/>
            <p:nvPr/>
          </p:nvGrpSpPr>
          <p:grpSpPr>
            <a:xfrm>
              <a:off x="4952880" y="4740120"/>
              <a:ext cx="3268800" cy="74880"/>
              <a:chOff x="4952880" y="4740120"/>
              <a:chExt cx="3268800" cy="74880"/>
            </a:xfrm>
          </p:grpSpPr>
          <p:sp>
            <p:nvSpPr>
              <p:cNvPr id="76" name="Rectangle 6"/>
              <p:cNvSpPr/>
              <p:nvPr/>
            </p:nvSpPr>
            <p:spPr>
              <a:xfrm flipV="1">
                <a:off x="4952880" y="48142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0"/>
              <p:cNvGrpSpPr/>
              <p:nvPr/>
            </p:nvGrpSpPr>
            <p:grpSpPr>
              <a:xfrm>
                <a:off x="4952880" y="4740120"/>
                <a:ext cx="3268800" cy="74880"/>
                <a:chOff x="4952880" y="4740120"/>
                <a:chExt cx="3268800" cy="74880"/>
              </a:xfrm>
            </p:grpSpPr>
            <p:sp>
              <p:nvSpPr>
                <p:cNvPr id="78" name="Rectangle 7"/>
                <p:cNvSpPr/>
                <p:nvPr/>
              </p:nvSpPr>
              <p:spPr>
                <a:xfrm flipV="1">
                  <a:off x="4952880" y="4814280"/>
                  <a:ext cx="326880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8"/>
                <p:cNvSpPr/>
                <p:nvPr/>
              </p:nvSpPr>
              <p:spPr>
                <a:xfrm flipV="1">
                  <a:off x="4952880" y="4740120"/>
                  <a:ext cx="3268800" cy="748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" name="Picture 13" descr="6925_865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4572000" y="5486400"/>
            <a:ext cx="4267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e has led to massive increases in wealth for many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budgetstock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isadvantages 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of tr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in gap between the rich and the p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minance of global trade by the rich, northern hemisphere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ck of opportunities for the poor to be able to have access to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workers and gro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79528_7870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49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4648320" y="5105520"/>
            <a:ext cx="4038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far does trade help children lik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clesio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ulti-national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or trans-national corporations (MNCs or TNCs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businesses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eadquart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one country but with business operations in a number of 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4" descr="From the Ad in Piccadilly Circus, London.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533520" y="4952880"/>
            <a:ext cx="42670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matter where you go in the world, certain businesses will always have a pres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mkeky, 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anding reve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ing raw mate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ing key sup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economi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38"/>
          <p:cNvGrpSpPr/>
          <p:nvPr/>
        </p:nvGrpSpPr>
        <p:grpSpPr>
          <a:xfrm>
            <a:off x="1752480" y="2895480"/>
            <a:ext cx="304920" cy="1143000"/>
            <a:chOff x="1752480" y="2895480"/>
            <a:chExt cx="304920" cy="1143000"/>
          </a:xfrm>
        </p:grpSpPr>
        <p:sp>
          <p:nvSpPr>
            <p:cNvPr id="93" name="Rectangle 1031"/>
            <p:cNvSpPr/>
            <p:nvPr/>
          </p:nvSpPr>
          <p:spPr>
            <a:xfrm>
              <a:off x="1752480" y="2895480"/>
              <a:ext cx="3049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037"/>
            <p:cNvGrpSpPr/>
            <p:nvPr/>
          </p:nvGrpSpPr>
          <p:grpSpPr>
            <a:xfrm>
              <a:off x="1752480" y="2895480"/>
              <a:ext cx="303480" cy="1143000"/>
              <a:chOff x="1752480" y="2895480"/>
              <a:chExt cx="303480" cy="1143000"/>
            </a:xfrm>
          </p:grpSpPr>
          <p:sp>
            <p:nvSpPr>
              <p:cNvPr id="95" name="Rectangle 1032"/>
              <p:cNvSpPr/>
              <p:nvPr/>
            </p:nvSpPr>
            <p:spPr>
              <a:xfrm>
                <a:off x="1752480" y="28954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036"/>
              <p:cNvGrpSpPr/>
              <p:nvPr/>
            </p:nvGrpSpPr>
            <p:grpSpPr>
              <a:xfrm>
                <a:off x="1752480" y="2895480"/>
                <a:ext cx="303480" cy="1143000"/>
                <a:chOff x="1752480" y="2895480"/>
                <a:chExt cx="303480" cy="1143000"/>
              </a:xfrm>
            </p:grpSpPr>
            <p:sp>
              <p:nvSpPr>
                <p:cNvPr id="97" name="Rectangle 1033"/>
                <p:cNvSpPr/>
                <p:nvPr/>
              </p:nvSpPr>
              <p:spPr>
                <a:xfrm>
                  <a:off x="1752480" y="2895480"/>
                  <a:ext cx="30348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1034"/>
                <p:cNvSpPr/>
                <p:nvPr/>
              </p:nvSpPr>
              <p:spPr>
                <a:xfrm>
                  <a:off x="1752480" y="2895480"/>
                  <a:ext cx="303480" cy="11430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6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1035" descr="72238_6062"/>
          <p:cNvPicPr/>
          <p:nvPr/>
        </p:nvPicPr>
        <p:blipFill>
          <a:blip r:embed="rId1"/>
          <a:stretch/>
        </p:blipFill>
        <p:spPr>
          <a:xfrm>
            <a:off x="380880" y="20574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39"/>
          <p:cNvSpPr/>
          <p:nvPr/>
        </p:nvSpPr>
        <p:spPr>
          <a:xfrm>
            <a:off x="380880" y="5334120"/>
            <a:ext cx="4496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trolling supplies may be one reas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global expa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rsvstks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0:55:58Z</dcterms:created>
  <dc:creator>A Ashwin</dc:creator>
  <dc:description/>
  <dc:language>en-US</dc:language>
  <cp:lastModifiedBy>Allison Hopkins</cp:lastModifiedBy>
  <dcterms:modified xsi:type="dcterms:W3CDTF">2012-01-21T18:23:40Z</dcterms:modified>
  <cp:revision>35</cp:revision>
  <dc:subject/>
  <dc:title>###Globalisation - PowerPoint Presentation###</dc:title>
</cp:coreProperties>
</file>