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66E-75BF-40D9-8B3F-CC89F938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D87-1AF1-4AAD-99A0-F746BDCD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6B5-16FB-468A-8346-65BB5B40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3D3-5084-45B7-8EA2-46F3FA3E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1094-C8CD-4BE6-8421-60798D64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3AA3-A53C-44D3-860A-6CFC2AE1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3738-4248-4A34-AECB-8050400C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672B-6B59-4BDB-82D9-EEF1C0E1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C428-D3D8-4B21-AD96-7BD96C7C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030E-6FDF-4B49-8FBB-3237549F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540A-2DB6-4A8B-9D6A-7C3E8907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805-BC4F-489F-9415-B2AFF51E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9CE4-84E2-411C-B6FB-F202C22A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2CFA-00E6-4FA7-8AC1-C6FDBF3E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C522-A779-4EF8-A474-FCEFEEB1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B906-3884-459F-B51E-E41F3818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5D64-92A7-411E-95ED-1C9262D4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C9227-CBE2-4D01-A6EA-47E334CC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27205-90DC-425B-A8E9-1F97ABDB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B0EC8-1FDE-4C52-8C49-C61BA05E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11884-406C-4840-9867-10175ED3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8988A-3A22-4543-8838-FDD97AA1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3B4-7843-4A60-AAFD-522A15AC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C4E28-3504-412B-AC63-AE0B7149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B3E6C-D706-4F67-8EAC-9C70C86E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53ED5-FFB4-453D-9A18-392CE9E5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2469A-DA4B-4F7F-88F6-3B1D135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1B9E5-7B62-486F-8B59-8D75EEAB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B78D8-B4AE-486B-B1A3-B48DAF23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AE0B1-32E2-4217-BD22-4C4178DE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70750-D4CC-46F7-B42E-A1FC18BE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4E238-EDCC-4858-8229-517CD009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306E-BD05-4F41-9ED8-3310BF15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1B6-002F-4836-93BA-BBF8711C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23600-F78C-4C61-BDC8-DCAFA192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EEFEB-0096-496B-86B5-B1FF1973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6369-7342-4571-985D-5EA2D6B9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A1CE-9FB1-4187-BE6A-A27DC77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881B-C737-4622-BD1B-BB753543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7578-DCCB-4E22-980D-601CF067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D6CD6-F99C-4C13-A308-340BAB36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832A3-F4CC-42BC-B501-748686BE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BCB0-8FE2-4E1E-89E1-748165D7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D284F-F374-480B-BCC2-6ACBAC7C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6A2-4655-4130-A097-DE49D345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FC54F-7434-4037-BFDF-7C3F51F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70E5C-3A05-4170-B5B5-5E085ACE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A5089-8358-4D29-8961-1C72E561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1A7F9-2CB8-44EA-BF08-A15B31A5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01089-A691-44AC-8C1C-5B103900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DBABF-23F4-4DAF-ABBB-FB7F2D2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E181F-2C24-479C-B62F-34FB9DE7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AE1DC-3F0A-4AB1-AC79-E3D4F042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71FA1-1F17-40F0-B7AF-4AFF4DD9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B6569-D390-4ACC-9E88-08AC89CA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9BA-466A-431F-B250-E1116A5B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899EC-7416-4AD1-AE24-F1B54B4D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93F1D-E81E-4B9F-AADF-4ACE571F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3C8D5-9618-41F7-A07B-F423AE0C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977C5-08B1-4CC4-9A37-869F2F09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44117-193D-4F94-85EE-972318A7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79FC22-E3CD-4FD6-A1C4-9E9AC157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56BD8-083D-4C5D-B89E-D752B578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AF7FC-337C-42F2-BD45-2EF47F2C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3D777-95F7-4F96-AEE5-7FEFDE8B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27983-A0E4-4BF6-8E9C-53F8947B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D76-652D-454C-A576-80635139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39314-DE0F-48AB-B8FE-B3F1FBC2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00106-55F9-49CC-A1B9-48301EB2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A2409-F6E3-4A7B-984D-1CFE895E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588C5-701E-45AA-989A-6BB4CD9E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9DCFC-C8F8-40FD-9566-AD718A76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F6C745-E22A-4560-983D-2528872F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9A0E7-E000-4DD5-80AC-F2E94ACA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6C127-1AE2-4A80-80AA-9BBDEF9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06D7D-7E26-428E-A1AA-F1C301BE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8B3E1-F1CA-4B81-81A8-CF8BCA8E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79D-F7DB-4006-AD63-8EE6069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4E125-3A40-43E4-8023-C5A647CB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F6E0D9-59A6-4EC3-969E-C294126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FB275-605A-42D5-A4D0-4A41756D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29530-3B02-49A9-8C05-4CA9A587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175CB-54CE-4719-A9BE-4C3B14DC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7D3-9495-44C7-AADA-9BCB2CDE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BC43-7A86-4177-8579-3ECA2D9C24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2CC7-7BC6-425C-BA05-F01EACFE4A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D3D9-0F16-4A36-B37A-CC87C31389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BC79-E256-4C87-A140-98769E04CF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3727-FCAB-44AD-BF96-1DCD5D0274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DABD-D5B1-45C0-92C6-C9F74F0669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C271-E99F-43FE-8EF7-C28F4D35FA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Mount_Rushmore_National_Memori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hitehousetapes.net/clip/lyndon-johnson-gerald-ford-congratulations-and-reques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EXECUTIVE BRAN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  <a:ea typeface="ヒラギノ角ゴ Pro W3"/>
            </a:endParaRPr>
          </a:p>
        </p:txBody>
      </p:sp>
      <p:pic>
        <p:nvPicPr>
          <p:cNvPr id="353" name="Picture 5" descr="File:Mount Rushmore National Memori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124080"/>
            <a:ext cx="43466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the office of the presidency has changed over tim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has more or less power now than he did in the past? Why or why n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is “closer to the people” more now or in the past? Why or why no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VARIED ROL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er in Chie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plo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Execu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egisla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arty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MMANDER IN CHIEF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imits: War Powers Act (1973): President must notify Congress within 48 hours of committing troops and troops must be removed after 60-90 days without congressional authoriz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bushname"/>
          <p:cNvPicPr/>
          <p:nvPr/>
        </p:nvPicPr>
        <p:blipFill>
          <a:blip r:embed="rId1"/>
          <a:stretch/>
        </p:blipFill>
        <p:spPr>
          <a:xfrm>
            <a:off x="3048120" y="4076640"/>
            <a:ext cx="29048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eremonial du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7" descr="50696857"/>
          <p:cNvPicPr/>
          <p:nvPr/>
        </p:nvPicPr>
        <p:blipFill>
          <a:blip r:embed="rId1"/>
          <a:stretch/>
        </p:blipFill>
        <p:spPr>
          <a:xfrm>
            <a:off x="2057400" y="2819520"/>
            <a:ext cx="5048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DIPLO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4" descr="reagan_and_gorbachev_hold_discussions"/>
          <p:cNvPicPr/>
          <p:nvPr/>
        </p:nvPicPr>
        <p:blipFill>
          <a:blip r:embed="rId1"/>
          <a:stretch/>
        </p:blipFill>
        <p:spPr>
          <a:xfrm>
            <a:off x="1981080" y="1905120"/>
            <a:ext cx="53341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EXECUTIVE/LEGISLATOR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5119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ARTY LEADER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03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5" descr="michelle-and--malia-and-sasha-obama-on-stage-at-the-democratic-national-convention-2008"/>
          <p:cNvPicPr/>
          <p:nvPr/>
        </p:nvPicPr>
        <p:blipFill>
          <a:blip r:embed="rId1"/>
          <a:stretch/>
        </p:blipFill>
        <p:spPr>
          <a:xfrm>
            <a:off x="1828800" y="2133720"/>
            <a:ext cx="52959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de Obama’s presidency so far and justify the grad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your political ideology might influence your perceptions of the presiden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METHOD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 your partner’s article and write a one-sentence summary at the bottom of the pag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to the group that best demonstrates the role of the president found in your artic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a group, fill in your section of the worksheet with examples of that role from Obama’s presidenc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group will present examples to the whole clas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do you remember from yesterday about the general demographic characteristics of presidents so fa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ny checks and balances relating to the presidency that you can rememb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ESTIONS FOR ARTI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What role(s) of the president are demonstrated in this articl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What other branches of government are involved in this news story and how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What is your personal opinion on this issue? What questions does the article raise for you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formal (expressed in the Constitution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informal (implied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your opinion, which is the most important role or power of the president and why? In other words, what do you think should be the president’s main job or responsibilit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ME MORE INFORMAL POW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privileg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agree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orde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uasion/using the med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CABINE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in the Constitution, but has been around since Washington’s presidenc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ifteen departments, each headed by a secretary (or Attorney General, in the case of the Justice Department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BINET RESEARCH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partment of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ergy: Jacob, Katelyn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ion: Maxine, Jessic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bor: Heather, Bryann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alth and Human Services: Shenna, Kell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fense: Peter, Krist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omeland Security: Casey, Bobb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te: Sam, Alex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ior: Cody, Bea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merce: Kiernan, Laur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ustice: Nate, Christin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XECUTIVE OFFICE OF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Communications (Press Secretary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Management and Bud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Security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Economic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OFFICE OF MANAGEMENT AND BUDGET (OMB)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pares the national budget that the President proposes to Congress each ye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ial influence over how much departments can spe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NATIONAL SECURITY COUNCIL (NSC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reated by Truman in 1947 at the start of the Cold W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ade up of the President, Vice Pres., Secretary of State, Secretary of Defense, CIA, Joint Chiefs of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ESIDENTIAL PERSONALITY AND PERSUAS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ddy Roosevelt: White House is a “bully pulpit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y idea of what this means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FLUENCING CONGR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housetapes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ea typeface="ヒラギノ角ゴ Pro W3"/>
                <a:hlinkClick r:id="rId1"/>
              </a:rPr>
              <a:t>http://whitehousetapes.net/clip/lyndon-johnson-gerald-ford-congratulations-and-requ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lbj"/>
          <p:cNvPicPr/>
          <p:nvPr/>
        </p:nvPicPr>
        <p:blipFill>
          <a:blip r:embed="rId2"/>
          <a:stretch/>
        </p:blipFill>
        <p:spPr>
          <a:xfrm>
            <a:off x="2286000" y="3733920"/>
            <a:ext cx="48006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RANKING THE PRESIDENTS</a:t>
            </a:r>
            <a:br>
              <a:rPr sz="3600"/>
            </a:b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 (SCHLESINGER, JR. 1996 POLL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p 10 Be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Lincol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Washingt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FD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Jeffer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Jack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6) Teddy Roosevelt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7) Wilso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8) Truma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9) Pol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0) Eisenhow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 Wor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Warren G. Hard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James Buchana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Andrew John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Nix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Herbert Hoov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PPEALING DIRECTLY TO THE PEOP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n: FDR’s “Fireside chat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vening radio speech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w: Weekly addresses online, State of the Union add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Rhetoric: The art of discou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speaker’s ability to persuade, inform, motivat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killful rhetoric: Charisma, emotion, logic/reason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LE OF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rainstorm: What is the medi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5" descr="huusxveugey80zgejggveg"/>
          <p:cNvPicPr/>
          <p:nvPr/>
        </p:nvPicPr>
        <p:blipFill>
          <a:blip r:embed="rId1"/>
          <a:stretch/>
        </p:blipFill>
        <p:spPr>
          <a:xfrm>
            <a:off x="990720" y="1676520"/>
            <a:ext cx="70880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AND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 does the media shape public opinion of the preside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craftiest and most dishonest politician that ever disgraced an [American political] office.”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llinois State Regi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o is this quote about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Press Corps: Group of reporters that cover the presidency and news briefings by the White House Press Secretary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BIAS IN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is bias? What is sla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041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is the media/press/public opinion an informal “limit” on presidential power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can the president use the media to his advantag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MITS ON PRESIDENTIAL POW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al and inform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ING THE PRESIDENT: THE BASICS OF THE ELECTORAL COLLE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 insufferably long, drawn-out, and confusing process”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on’t Know Much About History—Is the Electoral College a Party School?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a direct 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stead of voting for candidate, voting for a slate of electors who have pledged to vote for a particular candidat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ach state has electors equal to the number of its senators and representative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tal: 538, appointed by their state political par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have to vote for winner with most popular votes (faithless electors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eed 270 electoral votes to win (majori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 most states, “winner takes all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ndidate with the majority or plurality of votes gets all of the electoral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s decided by the Hous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00: Jefferson and Bur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ohn Quincy Adams and Jacks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on popular vote but lost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24: Adams, Jacks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76: Hayes, Tild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88: Harrison, Clevelan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000: Bush, Gor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E THAN JUST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13480" cy="74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2000 ELE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Gore won the popular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50,999,897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50,456,00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ush won the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266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27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? Florid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 won by 537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O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 win presidency, need broad regional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t dominated by cities or populous stat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omotes political stability (two parti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ederal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big one: Has worked for over 220 yea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N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inner of popular vote may not win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aithless elector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otes not distributed even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fficult for third par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ver-focus on “swing” stat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AD TO THE WHITE HOUS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0-11 months: Announcement of candidacy, building organization, obtaining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1-14 months: Early primaries (Feb-March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5-18 months: Late primari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0-24 months: Nominating convention, national campaig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 Day: Tues. after the first Monday in November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IMARY CAMPAIG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aucuses: Small meetings to determine which candidate to endo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Iow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imaries: States vote and the candidate with the most votes wins delegates at their party’s nominating conven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New Hampshir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AUGUR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Januar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ath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I do solemnly swear (or affirm) that I will faithfully execute the office of President of the United States, and will to the best of my ability, preserve, protect and defend the Constitution of the United States."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CCORDING TO ARTICLE II OF THE CONSTITUT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ust be at least 35 years old (Kennedy was 43 when elected, Teddy Roosevelt was 42 when he took offi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natural-born citiz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resident of the U.S. for at least 14 ye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owers: make treaties, appoint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tate of the Union” report to joint session of Cong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 of military, can grant pard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rms: Limited to two four-year terms by the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have most presidents been lik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ut of 43 president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m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 were wh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(at least nominally) Christian (42 Protestants, 1 Catholic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2 had prior military experienc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5 were lawyers before entering politic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4 were former V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5 were former Senato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9 were former representa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1 were former govern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ECKS AND BALANC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appoints justices, ambassadors, and cabinet secretaries and Senate confirms th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enate approves trea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can impeach President, Senate convi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drew Johnson, Clint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selects President if no majority of electoral vo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SUCCESS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…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most insignificant office that ever the invention of man contrived or his imagination conceived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---John Adams, on the Vice Presidency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rder: Vice President, Speaker of the House, President pro tempore (Senate), Secretary of State, other cabinet secretaries, et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can nominate the VP if there is a vacancy and he or she is confirmed by a majority vote in Congre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P can serve as “acting President” if President is unab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8:34:56Z</dcterms:created>
  <dc:creator>WHPS</dc:creator>
  <dc:description/>
  <dc:language>en-US</dc:language>
  <cp:lastModifiedBy>Allison Hopkins</cp:lastModifiedBy>
  <cp:lastPrinted>2010-10-19T20:54:59Z</cp:lastPrinted>
  <dcterms:modified xsi:type="dcterms:W3CDTF">2012-04-04T23:22:06Z</dcterms:modified>
  <cp:revision>178</cp:revision>
  <dc:subject/>
  <dc:title>The Executive Branch</dc:title>
</cp:coreProperties>
</file>