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67C0-E356-40C8-ABAF-E56F80C56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3C6A-BFCE-46DB-8E94-AFC4C1CC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2353-4943-44D6-933F-7281442B2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1DE5-8844-4266-BC6B-C0AD6DA34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FA4B-1618-4660-9C3D-1698008B7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1325-CB00-4061-8BB1-493EC6E7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E71F-389C-44E4-90D8-93D93F08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A2FF-11FA-4A59-8CBA-8362976A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1B13-A197-4B32-A621-464AA598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B5CD-2B35-41F6-B75D-D6FBA96A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6EF3-348F-47A4-802E-A2334F09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8347-A118-4A02-995B-380503C2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B188-AF50-4CCA-ADAE-91BAC06A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FE9A-B3F8-45E7-9D0B-1F396684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7224-9ECA-41FA-8B61-E24E592F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2E55-ED8E-4069-8C45-0CAD4E83E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C19B-D0F5-42AD-AD2D-7A7235482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ABEC55-78A7-4293-9B41-DEF72D2FA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BDE413-8A91-4DDB-9A75-B58432C6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1BAEB5-9D3B-4BFC-BAD6-C46A0860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5F9E5D-4851-4BC1-AA78-1D436236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E8DF82-DE50-428A-91EB-AC22B79D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ECD3-8C9C-4AE2-B1FB-D5B2AA43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A6E858-4CB6-4082-B304-41B87B04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F11824-90E4-4A3B-85BE-0DFC56E4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62F3AB-F601-4917-92CE-79F8E53F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F16CE3-83A4-4845-B888-238E4D7E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205976-EC75-455A-8546-C31604AC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AFFAE3-8270-4E4D-A6B3-F1F5E29C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313583-D372-44A9-ACB7-75CBF4109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9E75B-4FB3-4A64-95D5-DE2BB8B49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F500B-3C4E-45E0-93A3-3EDC7B60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04266-9600-4B99-83AD-F55FA69D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64B7-DA62-4F03-938D-729D21EC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AD75B-F298-409D-8E8A-161F53CA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9DC76-BEB7-4E10-B25A-A83BEB1D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504A8-C441-4226-BDFA-0ADA3AFF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3F752-2D86-4F46-BC2C-06E7DF92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88C6F-0053-46FC-A527-E0E202F1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F9528-CC12-486C-A623-AAF8AFFE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E4970-1BD0-4D95-B07B-70A750B2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D0A25-4867-46D9-A63A-DBF879D94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E5746-00C5-453C-BD83-72BC828CB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799BAB-BADE-43B2-B803-5F07796E1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1D8E-6DAF-4323-9B97-BDC2E532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9BC348-41DD-4CC1-B4DF-26F3C489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5A8542-E7F5-48BD-A3E9-A545201C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5BDD49-C382-4D61-9F57-E3F2366A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F32DA9-9273-4992-8ADD-A0DDF729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0D38CB-C23D-412A-91A9-CC599111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CB9B39-D380-4BC8-99D3-D9FDE74B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24E142-26D4-4874-A1BD-04689E73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6D759F-7A42-4770-BD1E-65462FFB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EF4DAE-50D2-47D5-8B67-5D475716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9A6EFC-285D-469D-9570-4AC7F3E1C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BB09-E7F7-4AD6-8001-B445D4C0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1889F6-6566-4835-ABEA-3DFAC6645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B4A273-93BC-44F0-9C90-674EEEF6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CB5B3F-67A5-4062-A332-BA958924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516C56-4657-4E68-AD1B-683E81F1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634C92-2C84-415D-8AAE-53D2206D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4F71B0-E0D8-4A83-A7D1-C6E4F98D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91E419-D2EC-4D2D-A816-0231AB2F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F6F8D3-0AC2-4E8D-B80E-96DF093B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5A5A5E-45D6-4977-8BA3-A7352C66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64CDA5-6929-4D8B-BA53-04F56AFE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3B1D-56EF-46B5-862F-D1003385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E82339-201E-4D3F-8EB0-5CE1A632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F6CDCA-2986-4766-9E64-6F97EDEA5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FE277B-A045-4109-A3BB-5E2F34233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526A7C-326F-4AB8-906C-3F2A73703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6B8A4E-64DA-41C3-9C9C-C50C7609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6BC205-0C7E-49F0-88F3-83B954BB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AF5C12-9BBB-436F-AD59-837E5C82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385A7F-409D-4040-B94A-F4A424F2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119973-6160-4504-82D4-213001F9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BAB32F-D6B3-478D-BD6D-4BF70886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5DC8-2B83-4FE9-813B-B3094A0D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D6F988-468A-4CB0-A4F3-5085128F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012C90-001E-4F95-B6FD-11D010CA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0128BB-8A84-490D-81B7-65D0B31A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133068-82B6-4F7D-910F-A4F25CDEC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6C3E0F-DD04-4BCB-9CED-DD7BCE1E3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C9C6-BB54-49C9-8EDB-401E6343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6ADF-2F06-4E89-B8D3-CFC314556DC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68BD-75B3-45BB-9952-A0566ED449A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CF04-485C-4362-86B4-4A2B0CD87CD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E9C5-F50F-492B-A16A-68E346E8ECE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8E48-A807-461A-B1B6-F27469194CD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0467-C807-44AA-9C38-6EDCCDEB957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7FCE-5738-4A92-97C8-DA56E8A0571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0/Mount_Rushmore_National_Memorial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hitehousetapes.net/clip/lyndon-johnson-gerald-ford-congratulations-and-request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THE EXECUTIVE BRANCH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75f6d"/>
              </a:solidFill>
              <a:latin typeface="Century Schoolbook"/>
              <a:ea typeface="ヒラギノ角ゴ Pro W3"/>
            </a:endParaRPr>
          </a:p>
        </p:txBody>
      </p:sp>
      <p:pic>
        <p:nvPicPr>
          <p:cNvPr id="353" name="Picture 5" descr="File:Mount Rushmore National Memoria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3124080"/>
            <a:ext cx="434664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JOURNAL #25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w do you think the office of the presidency has changed over tim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 you think the president has more or less power now than he did in the past? Why or why not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 you think the president is “closer to the people” more now or in the past? Why or why not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VARIED ROLE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Commander in Chie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Chief of St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Diplo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Chief Executi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Legislat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Moral lead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Party lead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COMMANDER IN CHIEF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Limits: War Powers Act (1973): President must notify Congress within 48 hours of committing troops and troops must be removed after 60-90 days without congressional authorization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Picture 5" descr="bushname"/>
          <p:cNvPicPr/>
          <p:nvPr/>
        </p:nvPicPr>
        <p:blipFill>
          <a:blip r:embed="rId1"/>
          <a:stretch/>
        </p:blipFill>
        <p:spPr>
          <a:xfrm>
            <a:off x="3048120" y="4076640"/>
            <a:ext cx="2904840" cy="22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CHIEF OF STA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Ceremonial dutie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9" name="Picture 7" descr="50696857"/>
          <p:cNvPicPr/>
          <p:nvPr/>
        </p:nvPicPr>
        <p:blipFill>
          <a:blip r:embed="rId1"/>
          <a:stretch/>
        </p:blipFill>
        <p:spPr>
          <a:xfrm>
            <a:off x="2057400" y="2819520"/>
            <a:ext cx="50482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DIPLO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1" name="Picture 4" descr="reagan_and_gorbachev_hold_discussions"/>
          <p:cNvPicPr/>
          <p:nvPr/>
        </p:nvPicPr>
        <p:blipFill>
          <a:blip r:embed="rId1"/>
          <a:stretch/>
        </p:blipFill>
        <p:spPr>
          <a:xfrm>
            <a:off x="1981080" y="1905120"/>
            <a:ext cx="533412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CHIEF EXECUTIVE/LEGISLATOR 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4" name="Picture 5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51196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PARTY LEADER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7" name="Picture 5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60384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MORAL LEAD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Picture 5" descr="michelle-and--malia-and-sasha-obama-on-stage-at-the-democratic-national-convention-2008"/>
          <p:cNvPicPr/>
          <p:nvPr/>
        </p:nvPicPr>
        <p:blipFill>
          <a:blip r:embed="rId1"/>
          <a:stretch/>
        </p:blipFill>
        <p:spPr>
          <a:xfrm>
            <a:off x="1828800" y="2133720"/>
            <a:ext cx="529596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JOURNAL #26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rade Obama’s presidency so far and justify the grad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w do you think your political ideology might influence your perceptions of the president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HE METHOD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ad your partner’s article and write a one-sentence summary at the bottom of the pag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o to the group that best demonstrates the role of the president found in your articl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s a group, fill in your section of the worksheet with examples of that role from Obama’s presidency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ach group will present examples to the whole clas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JOURNAL #24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do you remember from yesterday about the general demographic characteristics of presidents so far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st any checks and balances relating to the presidency that you can remember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QUESTIONS FOR ARTICL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. What role(s) of the president are demonstrated in this article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. What other branches of government are involved in this news story and how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. What is your personal opinion on this issue? What questions does the article raise for you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JOURNAL #27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st as many of the formal (expressed in the Constitution) powers or roles of the presidency as you can (without looking at notes!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st as many of the informal (implied) powers or roles of the presidency as you can (without looking at notes!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your opinion, which is the most important role or power of the president and why? In other words, what do you think should be the president’s main job or responsibility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OME MORE INFORMAL POWER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ecutive privileg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ecutive agreement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ecutive order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ersuasion/using the medi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THE CABINET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Not in the Constitution, but has been around since Washington’s presidency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Fifteen departments, each headed by a secretary (or Attorney General, in the case of the Justice Department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ABINET RESEARCH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partment of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nergy: Jacob, Katelynn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ducation: Maxine, Jessica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Labor: Heather, Bryanna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Health and Human Services: Shenna, Kelly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efense: Peter, Kristen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Homeland Security: Casey, Bobby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tate: Sam, Alex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terior: Cody, Bea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ommerce: Kiernan, Lauren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Justice: Nate, Christine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EXECUTIVE OFFICE OF THE PRESIDENT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White House Staf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Office of Communications (Press Secretary)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Office of Management and Budge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National Security Counci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National Economic Counci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OFFICE OF MANAGEMENT AND BUDGET (OMB)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Prepares the national budget that the President proposes to Congress each ye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Presidential influence over how much departments can spen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NATIONAL SECURITY COUNCIL (NSC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Created by Truman in 1947 at the start of the Cold W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Made up of the President, Vice Pres., Secretary of State, Secretary of Defense, CIA, Joint Chiefs of Staf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PRESIDENTIAL PERSONALITY AND PERSUASION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Teddy Roosevelt: White House is a “bully pulpit”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Any idea of what this means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INFLUENCING CONGRES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Whitehousetapes.or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2611c"/>
                </a:solidFill>
                <a:uFillTx/>
                <a:latin typeface="Century Schoolbook"/>
                <a:ea typeface="ヒラギノ角ゴ Pro W3"/>
                <a:hlinkClick r:id="rId1"/>
              </a:rPr>
              <a:t>http://whitehousetapes.net/clip/lyndon-johnson-gerald-ford-congratulations-and-reque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5" name="Picture 5" descr="lbj"/>
          <p:cNvPicPr/>
          <p:nvPr/>
        </p:nvPicPr>
        <p:blipFill>
          <a:blip r:embed="rId2"/>
          <a:stretch/>
        </p:blipFill>
        <p:spPr>
          <a:xfrm>
            <a:off x="2286000" y="3733920"/>
            <a:ext cx="480060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RANKING THE PRESIDENTS</a:t>
            </a:r>
            <a:br>
              <a:rPr sz="3600"/>
            </a:br>
            <a:r>
              <a:rPr b="0" lang="en-US" sz="36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 (SCHLESINGER, JR. 1996 POLL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Top 10 Best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1) Lincoln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2) Washington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3) FDR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4) Jefferson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5) Jackson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6) Teddy Roosevelt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7) Wilson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8) Truman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9) Polk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10) Eisenhower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5 Worst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1) Warren G. Harding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2) James Buchanan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3) Andrew Johnson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4) Nixon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5) Herbert Hoover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APPEALING DIRECTLY TO THE PEOPL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Then: FDR’s “Fireside chats”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vening radio speeches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Now: Weekly addresses online, State of the Union addres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Rhetoric: The art of discour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A speaker’s ability to persuade, inform, motivate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Skillful rhetoric: Charisma, emotion, logic/reason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THE ROLE OF THE MEDIA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Brainstorm: What is the media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THE MEDIA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2" name="Picture 5" descr="huusxveugey80zgejggveg"/>
          <p:cNvPicPr/>
          <p:nvPr/>
        </p:nvPicPr>
        <p:blipFill>
          <a:blip r:embed="rId1"/>
          <a:stretch/>
        </p:blipFill>
        <p:spPr>
          <a:xfrm>
            <a:off x="990720" y="1676520"/>
            <a:ext cx="708804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THE MEDIA AND THE PRESIDENT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How does the media shape public opinion of the president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The craftiest and most dishonest politician that ever disgraced an [American political] office.”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Illinois State Regist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Who is this quote about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White House Press Corps: Group of reporters that cover the presidency and news briefings by the White House Press Secretary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BIAS IN THE MEDIA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What is bias? What is slant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2057400" y="2362320"/>
            <a:ext cx="504180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JOURNAL #28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w is the media/press/public opinion an informal “limit” on presidential power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w can the president use the media to his advantage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LIMITS ON PRESIDENTIAL POW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rmal and informa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ELECTING THE PRESIDENT: THE BASICS OF THE ELECTORAL COLLEG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An insufferably long, drawn-out, and confusing process” </a:t>
            </a:r>
            <a:r>
              <a:rPr b="0" lang="en-US" sz="1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Don’t Know Much About History—Is the Electoral College a Party School?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Not a direct ele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Instead of voting for candidate, voting for a slate of electors who have pledged to vote for a particular candidat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ELECTORAL COLLEGE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Each state has electors equal to the number of its senators and representatives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Total: 538, appointed by their state political parti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 not have to vote for winner with most popular votes (faithless electors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Need 270 electoral votes to win (majority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In most states, “winner takes all”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andidate with the majority or plurality of votes gets all of the electoral votes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ELECTORAL COLLEGE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Elections decided by the Hous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1800: Jefferson and Bur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John Quincy Adams and Jacks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Won popular vote but lost electoral vo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1824: Adams, Jackson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1876: Hayes, Tilde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1888: Harrison, Clevelan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2000: Bush, Gore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MORE THAN JUST THE PRESIDENT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513480" cy="74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THE 2000 ELECTION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Gore won the popular vo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ore: 50,999,897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ush: 50,456,00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Bush won the electoral vo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ore: 266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ush: 27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How? Florid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ush won by 537 votes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PROS: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To win presidency, need broad regional suppo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Not dominated by cities or populous states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Promotes political stability (two partie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Federalis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A big one: Has worked for over 220 year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CONS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Winner of popular vote may not win electoral vo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Faithless electors”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Votes not distributed evenl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Difficult for third partie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Over-focus on “swing” states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THE ROAD TO THE WHITE HOUSE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0-11 months: Announcement of candidacy, building organization, obtaining suppo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11-14 months: Early primaries (Feb-March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15-18 months: Late primaries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20-24 months: Nominating convention, national campaig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Election Day: Tues. after the first Monday in November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PRIMARY CAMPAIGN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Caucuses: Small meetings to determine which candidate to endor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ost important: Iow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Primaries: States vote and the candidate with the most votes wins delegates at their party’s nominating conven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ost important: New Hampshire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INAUGURATION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January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  <a:ea typeface="ヒラギノ角ゴ Pro W3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Oath: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"I do solemnly swear (or affirm) that I will faithfully execute the office of President of the United States, and will to the best of my ability, preserve, protect and defend the Constitution of the United States."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ACCORDING TO ARTICLE II OF THE CONSTITUTION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Must be at least 35 years old (Kennedy was 43 when elected, Teddy Roosevelt was 42 when he took office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A natural-born citize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A resident of the U.S. for at least 14 year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Powers: make treaties, appointment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State of the Union” report to joint session of Congres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Command of military, can grant pard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Terms: Limited to two four-year terms by the 2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  <a:ea typeface="ヒラギノ角ゴ Pro W3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 Amend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UNOFFICIAL “REQUIREMENTS”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What have most presidents been lik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UNOFFICIAL “REQUIREMENTS”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Out of 43 presidents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3 were ma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2 were whi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3 were (at least nominally) Christian (42 Protestants, 1 Catholic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2 had prior military experienc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5 were lawyers before entering politic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4 were former VP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5 were former Senator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9 were former representativ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1 were former governo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CHECKS AND BALANCE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President appoints justices, ambassadors, and cabinet secretaries and Senate confirms them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Senate approves treati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House can impeach President, Senate convic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70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ndrew Johnson, Clinton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House selects President if no majority of electoral vot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SUCCESSION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“…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the most insignificant office that ever the invention of man contrived or his imagination conceived.”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---John Adams, on the Vice Presidency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Order: Vice President, Speaker of the House, President pro tempore (Senate), Secretary of State, other cabinet secretaries, etc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25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entury Schoolbook"/>
                <a:ea typeface="ヒラギノ角ゴ Pro W3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 Amendment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President can nominate the VP if there is a vacancy and he or she is confirmed by a majority vote in Congres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VP can serve as “acting President” if President is unabl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18:34:56Z</dcterms:created>
  <dc:creator>WHPS</dc:creator>
  <dc:description/>
  <dc:language>en-US</dc:language>
  <cp:lastModifiedBy>Allison Hopkins</cp:lastModifiedBy>
  <cp:lastPrinted>2010-10-19T20:54:59Z</cp:lastPrinted>
  <dcterms:modified xsi:type="dcterms:W3CDTF">2012-04-04T23:22:06Z</dcterms:modified>
  <cp:revision>178</cp:revision>
  <dc:subject/>
  <dc:title>The Executive Branch</dc:title>
</cp:coreProperties>
</file>