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88EA-E854-480F-8EF0-B2203094F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4FCD-AA05-4B13-94DF-E824657E4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0DE3-3F5F-4F40-A5B2-29AEEC611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8AE8-F341-46A7-8E2A-19A1D59C8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FEDE6-9B60-409F-A885-C479AE8DC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9C8CA-37CB-4342-AB68-8BB284AB2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DFCD8-4D31-485F-9F1E-98B146220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817F7-C2C3-4F7F-A1C1-51A30AB63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420CF-8B03-413B-8F46-F9B6D4C4A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EDFF3-F76C-4DF7-89F0-DCD412809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4E0EC-234A-486E-A9A0-35FD3A9E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8CC3-E05F-40F4-8FDD-87F19DDAB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9881B-2F4B-4F4B-AB69-22346E86B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205A8-62B9-421F-A740-A1A9C7FC4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76572-1EAA-4759-9FD9-6C663E720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1B9EB-8F47-44A4-AE83-E793832FE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632D8-01A8-4F49-BE33-EF85B2439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CEAC4C-ECE2-43BD-B9C7-82F88823A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9E9F2E-284A-465F-8C74-D838A2B3B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0C72B7-3C94-426E-9C62-324632E22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C0908E-7136-4700-A25D-E216892B4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49C524-84C7-44A8-8248-AD1125731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DF91-3F1A-4057-AB7F-DA109FE4C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84C9F7-AAB4-480E-8B83-5757C7E5D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AA8CFE-7CBD-4755-958C-986540D9B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C7E949-C383-4123-A44A-6AB81AB0D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F70389-A2E9-4E0F-91DD-FC4ADA5AA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963F98-C2D4-4C67-9BD2-CC66A0899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968FB1-2621-4386-93FC-46E4109BF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222E11-CE47-4A65-AB52-09482107D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E4E3C-3C1E-4515-9F71-C5BAE97BD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99D8F-5203-45DF-B807-0655E2216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0A743-A509-417B-AC3B-582B2A771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1DA2-8303-4719-9453-7BE0289B3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BA324-A1CF-487E-91AB-9FEF59FB8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9E189-331E-455E-A168-B20220437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7E539-4B33-4AE9-8175-8B4FD3C29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EC87A-2492-4C7B-8B70-C48E580D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48EC3-4D61-4777-9D7D-17FB0C471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AA8AB-5E28-4500-8F75-C733E4AB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5DF84-C52F-4866-99EA-03D04B9EE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ACAE1-901C-4796-A65A-DD9D029B4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96210-5A99-4380-88EE-6CF885D2C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16D9BA-46AB-456A-A6CC-B3B14BFC6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5985-641B-4B1B-8EB2-E5DCC3839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E93DC7-AF06-43C7-922E-E9CF92E3F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CBC079-309D-4DFE-BAE1-8BFB10122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60A240-E374-4F59-957F-3F9568274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1E8216-0356-48FB-B50F-52F9CFB89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DBA8EC-794B-4E03-B6CA-F2CC3DE5D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D6DF3F-BB8A-4534-B46F-9C60C8E01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FDB98F-C9B9-46A2-8033-164244D43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F6E32C-260E-47DA-99D4-5AD2B6EAD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CE0FB4-8670-4B3E-8776-012743634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97E8C5-B147-49DD-8D0D-E84D64EBD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F058-5134-4053-B792-D9E55474A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2E7EFF-0D6A-4982-8AE2-C1F9409BB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402B83-D25A-49DB-B92C-A34C1EB76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936F66-F970-4EED-BEE0-82EEC0CD6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9F0ADB-D56D-489B-B4D3-69A54E9A4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D35DB2-769A-449E-A3CA-BD979AB29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0B101B-7FA2-4A8B-926F-8B2CC0CBF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A21CD9-A37E-4F2A-B7BB-624DA998E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D1FA6A-9585-47C7-9259-658B2303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3AA2B7-85E9-4741-848F-4C7A0A6E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5D1E9B-BF81-46DE-9EC5-ACD20D90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45C8-726A-4900-B6A1-5DD20C23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F0C620-F7BE-4851-9731-95782F147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97986D-225E-4B68-BED8-A9855DB20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9AF289-D404-414B-8C92-4CDA8151A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F9873D-2168-4E21-815E-EE59F8A65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95C076-001C-4F7D-A04B-4DF5648CB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CD652F-8347-4A26-8CC4-F53843DF7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C6DDE4-1125-4AE4-85A2-D53E37AAF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A56C05-1A3F-434D-B55D-19BA22205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F7C0C6-319E-4FAC-B49E-9D733E8EE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655E75-5FB0-4A84-A6A5-102A269ED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E069-E69F-4052-9EF7-3EA6C40F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6A5A1A-930D-4BE7-B7F9-14A77CF4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432E75-AE4C-49EC-875E-C986F8423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140A07-DF40-47D2-81F7-0C8DCB440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441C8D-7502-43AE-B725-662087FB3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874B3B-0459-4C3D-9D75-67C243DB8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5394-8E10-404B-9E41-3993FC80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9CA33-722C-436D-A5F4-0D558CF9009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962D1-17AA-42B8-9439-03317BBB12E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A42F4-149F-45B9-8417-9D80986EA7D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4FADB-DBFF-44CD-BF21-DCA6A42572B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DF7ED-514A-496E-A18D-FD45614CEC9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BED11-1B1B-4614-9B71-C462699C274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DF315-16BC-4E19-B72D-BAB60679A56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1/10/Mount_Rushmore_National_Memorial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hitehousetapes.net/clip/lyndon-johnson-gerald-ford-congratulations-and-request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THE EXECUTIVE BRANCH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75f6d"/>
              </a:solidFill>
              <a:latin typeface="Century Schoolbook"/>
              <a:ea typeface="ヒラギノ角ゴ Pro W3"/>
            </a:endParaRPr>
          </a:p>
        </p:txBody>
      </p:sp>
      <p:pic>
        <p:nvPicPr>
          <p:cNvPr id="353" name="Picture 5" descr="File:Mount Rushmore National Memoria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3124080"/>
            <a:ext cx="4346640" cy="32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JOURNAL #25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ow do you think the office of the presidency has changed over time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o you think the president has more or less power now than he did in the past? Why or why not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o you think the president is “closer to the people” more now or in the past? Why or why not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VARIED ROLES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Commander in Chief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Chief of Sta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Diplo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Chief Executiv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Legislato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Moral lead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Party lead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COMMANDER IN CHIEF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Limits: War Powers Act (1973): President must notify Congress within 48 hours of committing troops and troops must be removed after 60-90 days without congressional authorization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6" name="Picture 5" descr="bushname"/>
          <p:cNvPicPr/>
          <p:nvPr/>
        </p:nvPicPr>
        <p:blipFill>
          <a:blip r:embed="rId1"/>
          <a:stretch/>
        </p:blipFill>
        <p:spPr>
          <a:xfrm>
            <a:off x="3048120" y="4076640"/>
            <a:ext cx="2904840" cy="22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CHIEF OF STAT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Ceremonial dutie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9" name="Picture 7" descr="50696857"/>
          <p:cNvPicPr/>
          <p:nvPr/>
        </p:nvPicPr>
        <p:blipFill>
          <a:blip r:embed="rId1"/>
          <a:stretch/>
        </p:blipFill>
        <p:spPr>
          <a:xfrm>
            <a:off x="2057400" y="2819520"/>
            <a:ext cx="504828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DIPLO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1" name="Picture 4" descr="reagan_and_gorbachev_hold_discussions"/>
          <p:cNvPicPr/>
          <p:nvPr/>
        </p:nvPicPr>
        <p:blipFill>
          <a:blip r:embed="rId1"/>
          <a:stretch/>
        </p:blipFill>
        <p:spPr>
          <a:xfrm>
            <a:off x="1981080" y="1905120"/>
            <a:ext cx="5334120" cy="35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CHIEF EXECUTIVE/LEGISLATOR 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4" name="Picture 5" descr=""/>
          <p:cNvPicPr/>
          <p:nvPr/>
        </p:nvPicPr>
        <p:blipFill>
          <a:blip r:embed="rId1"/>
          <a:stretch/>
        </p:blipFill>
        <p:spPr>
          <a:xfrm>
            <a:off x="1981080" y="1676520"/>
            <a:ext cx="5511960" cy="41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PARTY LEADER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7" name="Picture 5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660384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MORAL LEAD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0" name="Picture 5" descr="michelle-and--malia-and-sasha-obama-on-stage-at-the-democratic-national-convention-2008"/>
          <p:cNvPicPr/>
          <p:nvPr/>
        </p:nvPicPr>
        <p:blipFill>
          <a:blip r:embed="rId1"/>
          <a:stretch/>
        </p:blipFill>
        <p:spPr>
          <a:xfrm>
            <a:off x="1828800" y="2133720"/>
            <a:ext cx="5295960" cy="35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JOURNAL #26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rade Obama’s presidency so far and justify the grade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ow do you think your political ideology might influence your perceptions of the president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THE METHOD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ead your partner’s article and write a one-sentence summary at the bottom of the page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o to the group that best demonstrates the role of the president found in your article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s a group, fill in your section of the worksheet with examples of that role from Obama’s presidency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ach group will present examples to the whole class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JOURNAL #24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at do you remember from yesterday about the general demographic characteristics of presidents so far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ist any checks and balances relating to the presidency that you can remember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QUESTIONS FOR ARTICL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. What role(s) of the president are demonstrated in this article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. What other branches of government are involved in this news story and how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3. What is your personal opinion on this issue? What questions does the article raise for you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JOURNAL #27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ist as many of the formal (expressed in the Constitution) powers or roles of the presidency as you can (without looking at notes!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ist as many of the informal (implied) powers or roles of the presidency as you can (without looking at notes!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 your opinion, which is the most important role or power of the president and why? In other words, what do you think should be the president’s main job or responsibility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OME MORE INFORMAL POWER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xecutive privilege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xecutive agreement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xecutive order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ersuasion/using the media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THE CABINET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Not in the Constitution, but has been around since Washington’s presidency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Fifteen departments, each headed by a secretary (or Attorney General, in the case of the Justice Department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ABINET RESEARCH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partment of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Energy: Jacob, Katelynn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Education: Maxine, Jessica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Labor: Heather, Bryanna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Health and Human Services: Shenna, Kelly 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Defense: Peter, Kristen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Homeland Security: Casey, Bobby 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tate: Sam, Alex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Interior: Cody, Bea 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Commerce: Kiernan, Lauren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Justice: Nate, Christine 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EXECUTIVE OFFICE OF THE PRESIDENT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White House Staff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Office of Communications (Press Secretary)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Office of Management and Budge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National Security Council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National Economic Council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OFFICE OF MANAGEMENT AND BUDGET (OMB)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Prepares the national budget that the President proposes to Congress each yea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Presidential influence over how much departments can spend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NATIONAL SECURITY COUNCIL (NSC)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Created by Truman in 1947 at the start of the Cold Wa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Made up of the President, Vice Pres., Secretary of State, Secretary of Defense, CIA, Joint Chiefs of Staff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PRESIDENTIAL PERSONALITY AND PERSUASION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Teddy Roosevelt: White House is a “bully pulpit”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Any idea of what this means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INFLUENCING CONGRES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Whitehousetapes.or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2611c"/>
                </a:solidFill>
                <a:uFillTx/>
                <a:latin typeface="Century Schoolbook"/>
                <a:ea typeface="ヒラギノ角ゴ Pro W3"/>
                <a:hlinkClick r:id="rId1"/>
              </a:rPr>
              <a:t>http://whitehousetapes.net/clip/lyndon-johnson-gerald-ford-congratulations-and-request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5" name="Picture 5" descr="lbj"/>
          <p:cNvPicPr/>
          <p:nvPr/>
        </p:nvPicPr>
        <p:blipFill>
          <a:blip r:embed="rId2"/>
          <a:stretch/>
        </p:blipFill>
        <p:spPr>
          <a:xfrm>
            <a:off x="2286000" y="3733920"/>
            <a:ext cx="480060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RANKING THE PRESIDENTS</a:t>
            </a:r>
            <a:br>
              <a:rPr sz="3600"/>
            </a:br>
            <a:r>
              <a:rPr b="0" lang="en-US" sz="36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 (SCHLESINGER, JR. 1996 POLL)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Top 10 Best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1) Lincoln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2) Washington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3) FDR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4) Jefferson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5) Jackson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6) Teddy Roosevelt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7) Wilson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8) Truman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9) Polk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10) Eisenhower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5 Worst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1) Warren G. Harding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2) James Buchanan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3) Andrew Johnson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4) Nixon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5) Herbert Hoover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APPEALING DIRECTLY TO THE PEOPL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Then: FDR’s “Fireside chats”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Evening radio speeches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Now: Weekly addresses online, State of the Union addres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Rhetoric: The art of discour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A speaker’s ability to persuade, inform, motivate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Skillful rhetoric: Charisma, emotion, logic/reasoni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THE ROLE OF THE MEDIA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Brainstorm: What is the media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THE MEDIA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2" name="Picture 5" descr="huusxveugey80zgejggveg"/>
          <p:cNvPicPr/>
          <p:nvPr/>
        </p:nvPicPr>
        <p:blipFill>
          <a:blip r:embed="rId1"/>
          <a:stretch/>
        </p:blipFill>
        <p:spPr>
          <a:xfrm>
            <a:off x="990720" y="1676520"/>
            <a:ext cx="708804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THE MEDIA AND THE PRESIDENT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How does the media shape public opinion of the president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The craftiest and most dishonest politician that ever disgraced an [American political] office.” 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Illinois State Regist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Who is this quote about?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White House Press Corps: Group of reporters that cover the presidency and news briefings by the White House Press Secretary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BIAS IN THE MEDIA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304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What is bias? What is slant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7" name="Picture 4" descr=""/>
          <p:cNvPicPr/>
          <p:nvPr/>
        </p:nvPicPr>
        <p:blipFill>
          <a:blip r:embed="rId1"/>
          <a:stretch/>
        </p:blipFill>
        <p:spPr>
          <a:xfrm>
            <a:off x="2057400" y="2362320"/>
            <a:ext cx="504180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JOURNAL #28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ow is the media/press/public opinion an informal “limit” on presidential power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ow can the president use the media to his advantage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LIMITS ON PRESIDENTIAL POW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rmal and informal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ELECTING THE PRESIDENT: THE BASICS OF THE ELECTORAL COLLEG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An insufferably long, drawn-out, and confusing process” </a:t>
            </a:r>
            <a:r>
              <a:rPr b="0" lang="en-US" sz="1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Don’t Know Much About History—Is the Electoral College a Party School?)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Not a direct elec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Instead of voting for candidate, voting for a slate of electors who have pledged to vote for a particular candidate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ELECTORAL COLLEGE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Each state has electors equal to the number of its senators and representatives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Total: 538, appointed by their state political parti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o not have to vote for winner with most popular votes (faithless electors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Need 270 electoral votes to win (majority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In most states, “winner takes all”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Candidate with the majority or plurality of votes gets all of the electoral votes 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ELECTORAL COLLEGE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Elections decided by the House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1800: Jefferson and Burr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John Quincy Adams and Jackso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Won popular vote but lost electoral vo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1824: Adams, Jackson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1876: Hayes, Tilde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1888: Harrison, Cleveland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2000: Bush, Gore 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MORE THAN JUST THE PRESIDENT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9" name="Picture 3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6513480" cy="74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THE 2000 ELECTION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Gore won the popular vo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Gore: 50,999,897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Bush: 50,456,00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Bush won the electoral vo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Gore: 266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Bush: 27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How? Florida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Bush won by 537 votes 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PROS: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To win presidency, need broad regional suppo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Not dominated by cities or populous states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Promotes political stability (two partie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Federalis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A big one: Has worked for over 220 year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CONS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Winner of popular vote may not win electoral vo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Faithless electors”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Votes not distributed evenl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Difficult for third partie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Over-focus on “swing” states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THE ROAD TO THE WHITE HOUSE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0-11 months: Announcement of candidacy, building organization, obtaining suppo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11-14 months: Early primaries (Feb-March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15-18 months: Late primaries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20-24 months: Nominating convention, national campaign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Election Day: Tues. after the first Monday in November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PRIMARY CAMPAIGN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Caucuses: Small meetings to determine which candidate to endor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ost important: Iow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Primaries: States vote and the candidate with the most votes wins delegates at their party’s nominating conven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ost important: New Hampshire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INAUGURATION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January 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  <a:ea typeface="ヒラギノ角ゴ Pro W3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Oath: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"I do solemnly swear (or affirm) that I will faithfully execute the office of President of the United States, and will to the best of my ability, preserve, protect and defend the Constitution of the United States."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ACCORDING TO ARTICLE II OF THE CONSTITUTION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Must be at least 35 years old (Kennedy was 43 when elected, Teddy Roosevelt was 42 when he took office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A natural-born citizen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A resident of the U.S. for at least 14 year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Powers: make treaties, appointment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State of the Union” report to joint session of Congres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Command of military, can grant pardo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Terms: Limited to two four-year terms by the 2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  <a:ea typeface="ヒラギノ角ゴ Pro W3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 Amendmen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UNOFFICIAL “REQUIREMENTS”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What have most presidents been like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UNOFFICIAL “REQUIREMENTS”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Out of 43 presidents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43 were mal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42 were whi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43 were (at least nominally) Christian (42 Protestants, 1 Catholic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32 had prior military experience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5 were lawyers before entering politic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4 were former VP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5 were former Senator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9 were former representativ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1 were former governor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CHECKS AND BALANCES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President appoints justices, ambassadors, and cabinet secretaries and Senate confirms them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Senate approves treati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House can impeach President, Senate convict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700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ndrew Johnson, Clinton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House selects President if no majority of electoral vot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SUCCESSION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“…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the most insignificant office that ever the invention of man contrived or his imagination conceived.”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---John Adams, on the Vice Presidency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Order: Vice President, Speaker of the House, President pro tempore (Senate), Secretary of State, other cabinet secretaries, etc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25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entury Schoolbook"/>
                <a:ea typeface="ヒラギノ角ゴ Pro W3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 Amendment: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President can nominate the VP if there is a vacancy and he or she is confirmed by a majority vote in Congres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VP can serve as “acting President” if President is unabl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18:34:56Z</dcterms:created>
  <dc:creator>WHPS</dc:creator>
  <dc:description/>
  <dc:language>en-US</dc:language>
  <cp:lastModifiedBy>Allison Hopkins</cp:lastModifiedBy>
  <cp:lastPrinted>2010-10-19T20:54:59Z</cp:lastPrinted>
  <dcterms:modified xsi:type="dcterms:W3CDTF">2012-04-04T23:22:06Z</dcterms:modified>
  <cp:revision>178</cp:revision>
  <dc:subject/>
  <dc:title>The Executive Branch</dc:title>
</cp:coreProperties>
</file>